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D1A-C560-4C52-B6BC-8C6E23A1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8CC-1019-4306-ADBD-5BCBAA3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795-528B-4ED4-889A-CA64D0EB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4FD-9BDF-4061-AD7E-1F721445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8B7-A706-4B6B-9969-D4A9E6E7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466-425E-4137-AC26-630F5668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59A-796E-4233-9E9D-8C5BCF48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565-39FE-4E38-AC17-6837FCE4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B84-8759-49D4-B533-3BE5FB6D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587-D5F2-4F4F-8463-863A7E73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BFF-C596-4445-B331-00F02592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6C5-C6AD-4B2A-A5E0-EFE03390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5B05-4F99-47A5-8337-B66A58842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s – Whole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part of a learning col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peaking, address the whol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s are intended to move the collecti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in need of an answer, ask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fully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s – Smaller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part of a learning col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peaking, address the 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has a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on your colleagues’ expertise and offer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in need of an answer, ask 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fully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4:44:58Z</dcterms:created>
  <dc:creator>Information Systems</dc:creator>
  <dc:description/>
  <dc:language>en-US</dc:language>
  <cp:lastModifiedBy>Information Systems</cp:lastModifiedBy>
  <dcterms:modified xsi:type="dcterms:W3CDTF">2009-10-04T05:59:31Z</dcterms:modified>
  <cp:revision>3</cp:revision>
  <dc:subject/>
  <dc:title>Norms – Whole Group</dc:title>
</cp:coreProperties>
</file>